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DF2E-9B8C-41F0-B275-F0F686A73C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5BA3-D01F-4BB7-9701-4C63FF85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6A72-CD1B-4346-8779-D78011F3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3E4C-CD8C-4DA5-9C1F-5D51E04F18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46F5-6944-4809-9840-575065AD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54D6-6C3C-4F41-8CEE-D51E697D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8B83-916B-4B94-B5C8-C6C9756C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7838-5841-4250-AFAB-3F4E7182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E5D0-1B58-4862-8AF9-B47DAFA8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CE41-70B3-40EC-BBCE-DDBA8125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7030-9CDF-4F55-8ABC-EF225EFC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5903-3F80-4AC3-A983-03283341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7E1C-E874-4508-8755-C2123BB22B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产后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疼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休息和睡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营养摄入；及时补液防脱水；监测并纠正水电解质失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供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病情观察和记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阴部护理，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溶液冲洗外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温水坐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执行医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出现高热、疼痛、呕吐时按症状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产妇了解产褥感染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休息、饮食、活动、服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识别自身及新生儿异常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访、检查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后心理障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心理障碍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图表 1" descr=""/>
          <p:cNvPicPr/>
          <p:nvPr/>
        </p:nvPicPr>
        <p:blipFill>
          <a:blip r:embed="rId1"/>
          <a:stretch/>
        </p:blipFill>
        <p:spPr>
          <a:xfrm>
            <a:off x="291960" y="1316160"/>
            <a:ext cx="8650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绪不稳定，易哭，感觉焦虑、疲劳、失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现，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为高峰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在两周内出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明显，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今无统一诊断标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图片 1" descr="6BC93707-4BF0-4C7A-BD80-D389D33FDB56.png"/>
          <p:cNvPicPr/>
          <p:nvPr/>
        </p:nvPicPr>
        <p:blipFill>
          <a:blip r:embed="rId1"/>
          <a:stretch/>
        </p:blipFill>
        <p:spPr>
          <a:xfrm>
            <a:off x="228600" y="1197000"/>
            <a:ext cx="8915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丁堡产后抑郁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dinburgh postnatal depression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PD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筛查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ostpartum depression screening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DS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感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图片 1" descr="461AF471-A08C-412F-A5F6-63134BB0C655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病情，识别诱因，缓解压力，对症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刺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指导和护理，重者药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期家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暴力行为的危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倾听问题，给予心理疏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帮助产妇适应母亲角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不良个性产妇给予心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警惕伤害性行为，注意保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症患者在医师指导下给予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产妇重视和帮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出院指导和随访工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感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生殖道受病原体侵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局部和全身的炎性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病率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日间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口表测量体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图表 1" descr=""/>
          <p:cNvPicPr/>
          <p:nvPr/>
        </p:nvPicPr>
        <p:blipFill>
          <a:blip r:embed="rId1"/>
          <a:stretch/>
        </p:blipFill>
        <p:spPr>
          <a:xfrm>
            <a:off x="317520" y="1292400"/>
            <a:ext cx="86248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热、疼痛、异常恶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产褥感染三大主要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部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773360"/>
          <a:ext cx="8569080" cy="4659120"/>
        </p:xfrm>
        <a:graphic>
          <a:graphicData uri="http://schemas.openxmlformats.org/drawingml/2006/table">
            <a:tbl>
              <a:tblPr/>
              <a:tblGrid>
                <a:gridCol w="2232000"/>
                <a:gridCol w="63370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外阴伤口感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会阴裂伤或会阴切开部感染，葡萄球菌和大肠埃希菌感染为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阴道、宫颈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黏膜充血、水肿、溃疡、分泌物增多，呈脓性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子宫内膜炎、子宫肌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恶露量多，浑浊有臭味；宫底部压痛；全身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结缔组织炎、急性输卵管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感染扩散累及盆腔结缔组织和输卵管；“冰冻骨盆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腹膜炎及弥漫性腹膜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严重全身中毒症状：高热、恶心、呕吐、腹胀；下腹压痛、反跳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血栓性静脉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静脉压痛、硬索状；“股白肿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脓毒血症及败血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休克症状，可危及生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部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室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产褥感染诱发因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控制感染并纠正全身状况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持疗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感染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生素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辅助药物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进行抢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5:24Z</dcterms:modified>
  <cp:revision>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